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.wmf" ContentType="image/x-wmf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15.wmf" ContentType="image/x-wmf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9.jpeg" ContentType="image/jpeg"/>
  <Override PartName="/ppt/media/image8.png" ContentType="image/png"/>
  <Override PartName="/ppt/media/image41.wmf" ContentType="image/x-wmf"/>
  <Override PartName="/ppt/media/image32.jpeg" ContentType="image/jpeg"/>
  <Override PartName="/ppt/media/image38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18D-E5FE-4A76-9C3F-B59AFEF4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D20-5AD6-4720-AE84-9DD28C82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14F-8EB9-4F53-9F16-C6084277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04F-F9FD-497B-8620-2C94D345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7EA-C725-48EE-9BCF-04651CF2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D68-D56A-44B3-84C2-BCE7A83D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438D-4932-4B3D-8D5C-3098C383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9447-D355-4CC4-BF18-221564D0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1201-311D-4E38-9FEA-191A7069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E454-5E99-4AE4-9119-585408DA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D447-3A11-42A6-9F7A-1A477A1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C08-A0A8-40C0-B9AE-6A7CE47D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4DB3-E20F-48A7-BB39-AD9C2EBE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8280-5094-43CE-8F1C-873B563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DD7B-4077-4393-8FF6-6F027F8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A8E-8ABA-4188-BD08-8FF3EE12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05C-1E05-4260-B97D-22D5D58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06A7-43DA-4FF5-B6AC-D081E94B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916D-7F19-4ED4-9CC4-826B5AE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A592-707E-46A9-9526-FF08535E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4957-5E51-4166-8858-AC0B897D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BD33-9F00-400D-AF91-572FB2B9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6C2-3E8C-4425-A20D-AE4C3733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FC7D-383A-4BE3-A8E2-FCA31FA1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E63D-E6C7-475D-9FA3-464D871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30FC-ADC4-49E0-8302-74266E9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0DCC-A7F1-44E6-9143-B96C687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8AC9-5BAE-4174-BF38-5F28C68C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2485-031B-4424-94ED-95896FA1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C4B7-7322-4508-8182-3690D498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8226-6724-40B9-8E94-38EBB124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AD23-BC7D-4482-BC73-BF2C5F38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66FA-DB72-47C9-A5F2-8CADCE7F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D33-6E2B-4C62-9050-CB31367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BF57-08E0-4F4E-9DB1-B59F643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A4D82-AFEA-4D78-B728-49DD1DDC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159B-E3E7-411F-BA1C-39638CD9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9A90-195C-4FDD-A673-29EDB207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CDA4-7157-4ABB-97BE-45520BA0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5ED2-69D5-41AD-A442-AA2D192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65C5-3B7D-4705-9545-4E8424EF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EA66-113A-4438-87D6-7C4153B9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B22C-9A1B-460B-88F0-E197A94F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EA88A-3632-4B96-B583-A7B95E6F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E83-074F-4A7C-A766-2481D75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DA27-92BB-47AA-BCBF-8F50301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7AA18-A269-479F-90B2-7D45099D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D8D9-AADF-4444-A7D7-449DF76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8435-D35F-4383-B3E7-4175B681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9A3E-6B77-40BF-A5A6-844C9B23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002C-B1C4-4471-80F3-39BE9E68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6E41D-A35E-4257-BE5F-7C695B0E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92A0-2E5F-4FA3-815A-68ACC4D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6BEF-4DB3-40A2-9234-0681E6EC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A833D-C372-4F1B-88F9-233747E8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ED0-EB05-4367-8705-E6B38B37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C105-BDCA-47BB-9D59-F5A22EE2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EFD8-E464-4A77-9785-156C415B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203C-CDF2-4443-86F7-F4F5B19B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B772-3698-4DEB-9888-19011CBA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E826-DBD3-4DFE-9D78-E013DCF7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C88C-BDD0-4622-B2D3-F1E2C743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F81F-A89D-4D9D-9804-EB93188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5D17B-A8B1-44AD-B6C7-9AE3097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D45D4-AD6F-47A4-AB25-3A476084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536B-A80D-4A32-B756-CEB6207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DA3-20FD-40E4-8BFE-AE550449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509C-9A65-41D0-BEFE-C6FF85C6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3BF0-9874-4C48-9B21-43F1C15D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491E8-23D9-4817-8E12-9881BA99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7D9-C4D8-4497-9797-DB5F03F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339-9A25-43AF-AD78-52943848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8503-FF93-4842-9BBD-7C508557E5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DE98-6C58-4CAC-AC06-35F030AF7B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7E6-19A2-40AE-BCC5-DE6A8C321F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987-9740-4176-BF61-57B89D60BA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2837-8C75-4B09-8C44-7EF20B0257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4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5F2-57C0-4A73-BA5D-C4116F6B86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627280" y="333360"/>
            <a:ext cx="1727280" cy="1488960"/>
            <a:chOff x="2627280" y="333360"/>
            <a:chExt cx="1727280" cy="1488960"/>
          </a:xfrm>
        </p:grpSpPr>
        <p:sp>
          <p:nvSpPr>
            <p:cNvPr id="281" name="Pyr1"/>
            <p:cNvSpPr/>
            <p:nvPr/>
          </p:nvSpPr>
          <p:spPr>
            <a:xfrm>
              <a:off x="3299400" y="333360"/>
              <a:ext cx="387000" cy="329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yr2"/>
            <p:cNvSpPr/>
            <p:nvPr/>
          </p:nvSpPr>
          <p:spPr>
            <a:xfrm>
              <a:off x="3075120" y="663120"/>
              <a:ext cx="833400" cy="387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Pyr3"/>
            <p:cNvSpPr/>
            <p:nvPr/>
          </p:nvSpPr>
          <p:spPr>
            <a:xfrm>
              <a:off x="2853360" y="1050480"/>
              <a:ext cx="1276920" cy="386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yr4"/>
            <p:cNvSpPr/>
            <p:nvPr/>
          </p:nvSpPr>
          <p:spPr>
            <a:xfrm>
              <a:off x="2627280" y="1435320"/>
              <a:ext cx="1727280" cy="387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403280" y="4653000"/>
            <a:ext cx="2518920" cy="1828800"/>
            <a:chOff x="1403280" y="4653000"/>
            <a:chExt cx="2518920" cy="1828800"/>
          </a:xfrm>
        </p:grpSpPr>
        <p:sp>
          <p:nvSpPr>
            <p:cNvPr id="286" name=""/>
            <p:cNvSpPr/>
            <p:nvPr/>
          </p:nvSpPr>
          <p:spPr>
            <a:xfrm>
              <a:off x="2009520" y="5026320"/>
              <a:ext cx="1298160" cy="1120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3280" y="6108480"/>
              <a:ext cx="745920" cy="37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9600" y="4653000"/>
              <a:ext cx="746280" cy="37332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76280" y="6108480"/>
              <a:ext cx="745920" cy="37332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ubChord"/>
          <p:cNvSpPr/>
          <p:nvPr/>
        </p:nvSpPr>
        <p:spPr>
          <a:xfrm rot="16983600">
            <a:off x="5219640" y="2819160"/>
            <a:ext cx="1761840" cy="17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ubPieSlice"/>
          <p:cNvSpPr/>
          <p:nvPr/>
        </p:nvSpPr>
        <p:spPr>
          <a:xfrm>
            <a:off x="4572000" y="4941720"/>
            <a:ext cx="1324080" cy="132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ubTriangle"/>
          <p:cNvSpPr/>
          <p:nvPr/>
        </p:nvSpPr>
        <p:spPr>
          <a:xfrm rot="20176800">
            <a:off x="7451280" y="2707920"/>
            <a:ext cx="1397160" cy="139716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16720" y="4611600"/>
            <a:ext cx="2627280" cy="2246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19687800">
            <a:off x="93240" y="2276280"/>
            <a:ext cx="930276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лубный час - соревнование "Математическое многоборье"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 rot="20730600">
            <a:off x="324000" y="549360"/>
            <a:ext cx="1582560" cy="1560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003640" y="88920"/>
            <a:ext cx="1708200" cy="1324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 rot="20496000">
            <a:off x="1545840" y="2349000"/>
            <a:ext cx="15130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6877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4800" y="2061720"/>
            <a:ext cx="6479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+ 4 =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- 4 : 4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· 4 =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+ 4 : 4 =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456000" cy="32558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1280" y="4428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ние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ег  на короткие дистан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4249800" cy="3273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44360" y="558972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Юрий Борзаковский –    олимпийский чемп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180360" cy="5662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55640" y="-5436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Продолжите ряд чисел – допишите 4 числ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А) 18,9,16,8,….                                      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Б) 27,32,37,42….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В) 1,2,3,5,8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Проверь себя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А) 18,9,16,8,14,7,12,6,10,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                                       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Б) 27,32,37,42,47,52,57,6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В) 1,2,3,5,8,13,21,34,5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9640" y="-316080"/>
            <a:ext cx="4176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Задание №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тание коп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103640" cy="2806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103640" cy="3166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3671640" cy="3384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11120" y="543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080" y="5445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Мария Абакумова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Олимпийская чемпио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08000" y="426960"/>
            <a:ext cx="934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сставьте математические знаки, которые нужно использовать при выполнен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увелич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величить в несколько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в несколько р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бо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2664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увеличить на несколько единиц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на несколько единиц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величить в несколько раз(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в несколько раз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бол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мен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больше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меньше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55640" y="-2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Задание №7.                     Бег с препятстви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32040" y="3860640"/>
            <a:ext cx="2524320" cy="2664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108000" y="3141720"/>
            <a:ext cx="3190680" cy="3456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490920" y="1557360"/>
            <a:ext cx="2952720" cy="20955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588000" y="2998800"/>
            <a:ext cx="242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43080" cy="3213000"/>
          </a:xfrm>
          <a:prstGeom prst="rect">
            <a:avLst/>
          </a:prstGeom>
          <a:ln w="0">
            <a:noFill/>
          </a:ln>
        </p:spPr>
      </p:pic>
      <p:pic>
        <p:nvPicPr>
          <p:cNvPr id="375" name="img_0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2397240" cy="3240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1397160"/>
            <a:ext cx="828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ась в Набережных Челнах, Татарстан. Выступает в беге на 1500 и 5000 м, неоднократно становилась чемпионкой России на этих дистанциях, однако коронным видом Гульнары является стипль-чез — бег с препятствиями на 3000 м. В этом виде легкоатлетической программы ей принадлежит рекорд мира, установленный в 2004 году, и побитый ей же на Олимпиаде в Пекине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503280" y="290520"/>
            <a:ext cx="95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ульнара Самитова-Гал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Решите задач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 соревнованиях по бегу Антон, Кирилл и                     Слава заняли первые три места. Какое место занял каждый из ребят, если Кирилл занял не второе и не третье, а Слава не третье мес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 уроке физкультуры нужно было прыгнуть в длину с места на 90 см. В первый раз Даше не хватило до нормы 20 см. Во второй она перепрыгнула норму на 2 см. На сколько см второй результат Даши больше первого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4200" y="1889280"/>
            <a:ext cx="799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группа объединённых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портивных состязаний,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остоящих из  упражнений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одном каком –либо или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нескольких видах сп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(Толковый словарь. Ушаков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484360" y="1243080"/>
            <a:ext cx="576108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ногоборье -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место – Кирил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место – Сл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место – Ант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результат – 70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результат – 92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: больше на 2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5120" y="-10008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8.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Синхронное пла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442880" y="1411200"/>
            <a:ext cx="2408400" cy="2881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2382840" cy="2860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41120" y="4387680"/>
            <a:ext cx="3062520" cy="2354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5076720" y="4394160"/>
            <a:ext cx="39513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39640" y="304560"/>
            <a:ext cx="79790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На сколько частей разделится лист бумаги четырьмя прямыми линиями, проходящими через одну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умайте, как разрезать эту фигуру на 4 равные и одинаковые по форме части, чтобы сумма чисел в каждой из них равнялось 2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700360" y="2797200"/>
          <a:ext cx="3887280" cy="3681000"/>
        </p:xfrm>
        <a:graphic>
          <a:graphicData uri="http://schemas.openxmlformats.org/drawingml/2006/table">
            <a:tbl>
              <a:tblPr/>
              <a:tblGrid>
                <a:gridCol w="971640"/>
                <a:gridCol w="972360"/>
                <a:gridCol w="971640"/>
                <a:gridCol w="971640"/>
              </a:tblGrid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108000" y="228600"/>
            <a:ext cx="855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Задание № 9 – Фехтование</a:t>
            </a: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3170160"/>
            <a:ext cx="4067280" cy="3067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537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ыпишите числа которые находятс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оманда: в          ,           и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оманда: в     и         , но не в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оманда: не в           и не в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1700280"/>
            <a:ext cx="863640" cy="433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00720" y="1773360"/>
            <a:ext cx="863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1628640"/>
            <a:ext cx="360360" cy="4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27664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67280" y="2349360"/>
            <a:ext cx="720720" cy="28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88000" y="2349360"/>
            <a:ext cx="86364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2852640"/>
            <a:ext cx="107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9440" y="285264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24000" y="3500280"/>
            <a:ext cx="4537080" cy="15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3573360"/>
            <a:ext cx="1800360" cy="2951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35280" y="4365720"/>
            <a:ext cx="4032360" cy="1657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500720" y="4437000"/>
            <a:ext cx="504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48000" y="501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5964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6920" y="4365720"/>
            <a:ext cx="5050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6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2360" y="400536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75280" y="3925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364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03640" y="465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5157720"/>
            <a:ext cx="86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328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       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530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515772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0328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32720" y="36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 rot="19942800">
            <a:off x="-396720" y="2592000"/>
            <a:ext cx="2009520" cy="2131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 rot="1426800">
            <a:off x="7249680" y="2519280"/>
            <a:ext cx="1785960" cy="213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403280" y="1292400"/>
            <a:ext cx="5977080" cy="5565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Comic Sans MS"/>
              </a:rPr>
              <a:t>Задание №1. Разминка.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Наибольшее двузнач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Какова продолжительность трёх периодов хоккейного матч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У какого слона нет хоб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На какой счёт в знаменитой считалке вышел зайчик  погул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-Стоит в поле дуб. На дубе три яблока. Ехал добрый молодец и сорвал одно яблоко. Сколько яблок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39280" y="43920"/>
            <a:ext cx="7559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Задание №2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Стрельба из лу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4070520"/>
            <a:ext cx="3203640" cy="2787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724360" y="4033800"/>
            <a:ext cx="345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9280" y="31845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50356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2060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3666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59280" y="5322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46530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57546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77080" y="12682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85080" y="3068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73600" y="28018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55280" y="409896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3595680"/>
            <a:ext cx="2087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476360" y="3019320"/>
            <a:ext cx="5745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692360" y="453060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484360" y="30189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156360" y="206064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96360" y="213372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6227280" y="3644640"/>
            <a:ext cx="108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85080" y="4076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300720" y="537336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6000" y="111240"/>
            <a:ext cx="838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Расставьте любые цифры в кружки так, чтобы стрелка всегда была направлена от кружка с большей цифрой к кружку с меньш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1193760" cy="2808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851280" y="3546360"/>
            <a:ext cx="18064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66400" y="228600"/>
            <a:ext cx="6177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 3.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Эстафе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032000" cy="3384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4176720" cy="3322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788000" y="152712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ь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тные 5, 6, 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-459000"/>
            <a:ext cx="7416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Задание №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Прыжки в 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4608360" cy="3743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3097440" cy="5111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24000" y="5084640"/>
            <a:ext cx="8353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05080" cy="3887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4392360" cy="4032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4000" y="1303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лена Исинбаева – многократная Олимпийская чемпи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683160" y="3716280"/>
            <a:ext cx="1968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1384200"/>
            <a:ext cx="9180360" cy="5473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108000" y="549360"/>
            <a:ext cx="925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Расставь знаки и скобки так, чтобы       получились верные равенства.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06160" y="1773000"/>
            <a:ext cx="38862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24Z</dcterms:created>
  <dc:creator>user</dc:creator>
  <dc:description/>
  <dc:language>en-US</dc:language>
  <cp:lastModifiedBy>user</cp:lastModifiedBy>
  <dcterms:modified xsi:type="dcterms:W3CDTF">2011-11-26T15:44:38Z</dcterms:modified>
  <cp:revision>18</cp:revision>
  <dc:subject/>
  <dc:title>Слайд 1</dc:title>
</cp:coreProperties>
</file>